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72FA-E5CE-4FDA-A61E-BF514A91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F084-C5F5-4698-924D-B3F44DEE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790C-AC8A-4148-8E0B-509DCA51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7B8B-E1FA-4376-A01B-7B3B5FD4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7C80-9D15-4D1A-9002-ED5BFA10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7AF5-BA15-41CB-9F7D-D009B60F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2CD4-8576-4C51-87D3-083F835A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A41B-4CE2-4E09-A61A-8E37B446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DC25-A425-45F1-8913-47AD84F4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569A-C2D8-4AFE-A1F6-9D9EFC51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8CF2-1182-42B1-9566-BDE1915E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231-82A0-4441-96C0-B1F6BE9F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6A47-D119-4812-B84D-9A780396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90E1-5A7B-4EE9-86BD-1BF53D29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32C6-4CEB-411C-B695-E5E0146B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2081-D2AE-4155-8EB4-A519A4D6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CBB0-6672-4C1C-ACEB-0A3AC0C4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61A3-CEC9-40A5-A26E-EEBF2656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72A8-71F3-42C7-A471-D0FC0B3F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D6CA-651A-4640-8B7D-E1A2F4D8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F2F-260B-4447-AAE9-3DA546DA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B134-FA08-4B65-904E-E17547CC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E33-491F-48D6-AB24-3D56D3A7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2E91-E969-4B98-87EC-1312B668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FB58-E259-476B-AA00-C58521EE0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CEE5-4896-4A2C-A76A-A2041D992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ngular and Plural Nou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629400" y="6172200"/>
            <a:ext cx="2262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 S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Some nouns change the inside spel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woman   wom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Nouns that end in consonant letter and 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, drop the 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and add 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fly   fl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onkey   monke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 Some nouns do not change when making them plu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tton   co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590920" y="1981080"/>
            <a:ext cx="263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066680" y="22860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actic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2514600"/>
            <a:ext cx="263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90920" y="3048120"/>
            <a:ext cx="263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3581280"/>
            <a:ext cx="263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4114800"/>
            <a:ext cx="263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90920" y="4648320"/>
            <a:ext cx="263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75280" y="1981080"/>
            <a:ext cx="263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75280" y="2514600"/>
            <a:ext cx="263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75280" y="3048120"/>
            <a:ext cx="263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75280" y="3581280"/>
            <a:ext cx="263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as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75280" y="4114800"/>
            <a:ext cx="263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75280" y="4648320"/>
            <a:ext cx="263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There are 6 ways to change a noun from singular to plural.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9920" y="3886200"/>
            <a:ext cx="6738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noun is a person, place, or th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ular means only one nou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ural means more than one nou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ule 1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st nouns become plural by adding “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”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11320" y="2590560"/>
            <a:ext cx="2332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11320" y="320040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11320" y="380988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11320" y="441972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92600" y="259092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y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92600" y="320040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92600" y="380988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k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92600" y="441972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ool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ule 2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ouns that end in “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”, “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h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”, “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”, add “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”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11320" y="2590560"/>
            <a:ext cx="2332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11320" y="320040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11320" y="380988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ur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92600" y="259092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sh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92600" y="320040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x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92600" y="380988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urch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ule 3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ouns that end in “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” or “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e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” often change to “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e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”.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11320" y="2590560"/>
            <a:ext cx="2332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11320" y="320040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l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2600" y="259092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92600" y="320040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l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ule 4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ome nouns change the inside spelling.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11320" y="2590560"/>
            <a:ext cx="2332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11320" y="320040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92600" y="259092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92600" y="320040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e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11320" y="396252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92600" y="396252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ule 5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ouns that end in a consonant letter and “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”, drop the “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” and add “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”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011320" y="2590560"/>
            <a:ext cx="2332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11320" y="320040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pp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11320" y="380988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k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11320" y="441972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92600" y="259092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92600" y="320040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pp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92600" y="380988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key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92600" y="441972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ule 6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ome nouns do not change when making them plural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011320" y="2971440"/>
            <a:ext cx="2332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11320" y="358128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11320" y="419112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11320" y="480060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92600" y="297180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92600" y="358128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92600" y="419112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92600" y="480060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Most nouns become plural by adding 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up  cup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Nouns that end in 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, 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, 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add 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ish   dish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Nouns that end in”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or 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often change to 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knife   kni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9:07:46Z</dcterms:created>
  <dc:creator>Tom Souter</dc:creator>
  <dc:description/>
  <dc:language>en-US</dc:language>
  <cp:lastModifiedBy>mpeck</cp:lastModifiedBy>
  <cp:lastPrinted>1904-01-01T00:00:00Z</cp:lastPrinted>
  <dcterms:modified xsi:type="dcterms:W3CDTF">2011-01-15T15:36:32Z</dcterms:modified>
  <cp:revision>6</cp:revision>
  <dc:subject/>
  <dc:title>Singular and Plural Nouns</dc:title>
</cp:coreProperties>
</file>